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9.png" ContentType="image/png"/>
  <Override PartName="/ppt/media/image17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6436-67D3-47E4-AFD4-4DC1AE9E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3A29-9B44-4F3C-AD17-411009CD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E257-1159-4A7D-B8BE-5D70311C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57D9-66A9-4F74-A091-0921D1F3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E4CA-CBE0-4FCB-BC95-6523F0EA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8F04-C56C-4BCD-B89F-6AE16FFC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26B0-1F86-45D7-946D-C115A1E8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7D25-06BB-46B9-9573-05E8C97E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8C14-FB7A-4348-BD12-129A5BDF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B0CF-59F8-4036-99B0-D388A17D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3DAC-569F-4D67-9F1F-4383C0BD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6CA-117D-43D8-A87C-5803FD9A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7D96-AD62-4D90-AA85-2EC156AA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2FF5-23A9-4CD2-B96E-0E6E153B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881F-6A00-4515-A4A1-77051893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700F-E44B-4B84-83D8-F023D1D7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ABDC-BF2D-46EA-97C4-57F96F2B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947-623E-4200-977D-FDBEEAA9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B8B8-A56E-48C4-9BD7-6C5FE368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A8FC-FA12-41BA-8CBE-054D9654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5E11-71F2-4121-AC66-795B9CE2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F4D3-0281-4CA1-B483-CF451552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8E42-875D-4DF1-A8BE-8721A3C1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AD37-6FD5-42A1-8F9A-DDF08B1B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2A60-F864-423F-8643-1ACF44F981A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B1FC-D568-426F-BF18-C22E041FBE5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8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2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2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2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2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2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Gordon’s Personal View of</a:t>
            </a:r>
            <a:br>
              <a:rPr sz="4000"/>
            </a:b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Personal Computing: </a:t>
            </a:r>
            <a:br>
              <a:rPr sz="4000"/>
            </a:b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before the PC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29718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Vintage Computer Society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27 September 1998 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Gordon Bell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gbell@microsoft.com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http://www.research.microsoft.com/~gbell</a:t>
            </a:r>
            <a:endParaRPr b="1" lang="en-US" sz="2800" spc="-1" strike="noStrike">
              <a:solidFill>
                <a:srgbClr val="a08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Sage%20big%20screen%20rm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6324840" cy="5094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SAGE Control Room c 1962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Whirlwind used for first experiments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Sage%201%20console%20lt%20gun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400800" cy="49640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SAGE (Semi-Automatic Ground Environment) Operator Consol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X0%20console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772400" cy="36320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TX-0 Console c1959… one of the first transistorized </a:t>
            </a:r>
            <a:r>
              <a:rPr b="1" i="1" lang="en-US" sz="3600" spc="-1" strike="noStrike">
                <a:solidFill>
                  <a:srgbClr val="402000"/>
                </a:solidFill>
                <a:latin typeface="Times New Roman"/>
              </a:rPr>
              <a:t>personal </a:t>
            </a: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computer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486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Speech, handwriting recognition, neuro data analysis, etc. Interactive editors, debuggers, et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1371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MIT Speech group with TX-0, c1959.</a:t>
            </a:r>
            <a:endParaRPr b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5" name="DecWorld%208307%20cover%20photo%20MIT%20speech%20group%20with%20TX0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6309000" cy="59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DEC Computer before PDP-11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7" name="DEC%20computers%20Sci%20Mus%20poster" descr=""/>
          <p:cNvPicPr/>
          <p:nvPr/>
        </p:nvPicPr>
        <p:blipFill>
          <a:blip r:embed="rId1">
            <a:lum contrast="12000"/>
          </a:blip>
          <a:stretch/>
        </p:blipFill>
        <p:spPr>
          <a:xfrm flipH="1">
            <a:off x="914040" y="1981080"/>
            <a:ext cx="7924680" cy="4572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133720" y="1523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957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    1961     1963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DP-1Sysm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8229600" cy="5707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DEC PDP-1 c1961 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Linc%20&amp;%20Wes%20Clark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696080" cy="55339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Wes Clark &amp; LINC c1962: Personal computers for bio-medical research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DP-5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925040" cy="3807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5 c1964: PDP-8 predecessor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55627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Process control, real time experiments. Fortran ran in 4 K, 12 bit wo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Gbell%20with%20Linc%20&amp;%208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848360" cy="5676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Gbell with LINC and PDP-8 c1965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DP%208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4838760" cy="6159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7120" y="4568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: first mini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1752480"/>
            <a:ext cx="236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First OEM computer.  OS/8 (from timesharing) begot RT-11 begot CP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BM%20PC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620388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ransModPDP-8.Com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858000" cy="4868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 Module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DP8E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696440" cy="49309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/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DP%208%20family%20tree" descr=""/>
          <p:cNvPicPr/>
          <p:nvPr/>
        </p:nvPicPr>
        <p:blipFill>
          <a:blip r:embed="rId1"/>
          <a:stretch/>
        </p:blipFill>
        <p:spPr>
          <a:xfrm>
            <a:off x="914400" y="800280"/>
            <a:ext cx="7924680" cy="5752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 and Linc Family Tre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DP-8%20Price%20word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924680" cy="58672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 12 bit word price (t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D8%20price%20t%20(log)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8001000" cy="6400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</a:t>
            </a:r>
            <a:br>
              <a:rPr sz="3600"/>
            </a:b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 prices (t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Timesharing: given everyone their own, low cost, personal computer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bell%20kotok%20photo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629400" cy="53751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PDP-6 c1965 : First commercial time shared computer. Gbell &amp; Alan Koto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dp6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762120" y="1638360"/>
            <a:ext cx="8076960" cy="46861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6 Development team c1965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DP%2010%20family%20tree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848360" cy="4876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6/10/ DECsystem 10/20</a:t>
            </a:r>
            <a:br>
              <a:rPr sz="3600"/>
            </a:b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 family tre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1071360"/>
            <a:ext cx="7056360" cy="277164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There is no reason anyone would want a computer in their home.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73160" y="3890520"/>
            <a:ext cx="5663880" cy="1698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 algn="r">
              <a:spcBef>
                <a:spcPts val="174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Ken Olsen</a:t>
            </a:r>
            <a:br>
              <a:rPr sz="2800"/>
            </a:b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President, Chairman and founder of Digital, 1977</a:t>
            </a:r>
            <a:endParaRPr b="1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Apple II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3" name="AppleIICPU.Com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553080" cy="477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avguy" descr=""/>
          <p:cNvPicPr/>
          <p:nvPr/>
        </p:nvPicPr>
        <p:blipFill>
          <a:blip r:embed="rId1"/>
          <a:stretch/>
        </p:blipFill>
        <p:spPr>
          <a:xfrm>
            <a:off x="3613320" y="0"/>
            <a:ext cx="5530680" cy="4754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0320" y="2228760"/>
            <a:ext cx="7802640" cy="37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Equating 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yourself 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to the average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“user/buyer”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is risky . . .  unless you’re an average user.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66960" y="733320"/>
            <a:ext cx="1605960" cy="1352160"/>
            <a:chOff x="966960" y="733320"/>
            <a:chExt cx="1605960" cy="1352160"/>
          </a:xfrm>
        </p:grpSpPr>
        <p:sp>
          <p:nvSpPr>
            <p:cNvPr id="153" name=""/>
            <p:cNvSpPr/>
            <p:nvPr/>
          </p:nvSpPr>
          <p:spPr>
            <a:xfrm>
              <a:off x="1074960" y="1472040"/>
              <a:ext cx="1497960" cy="613440"/>
            </a:xfrm>
            <a:custGeom>
              <a:avLst/>
              <a:gdLst/>
              <a:ahLst/>
              <a:rect l="l" t="t" r="r" b="b"/>
              <a:pathLst>
                <a:path w="3211" h="1314">
                  <a:moveTo>
                    <a:pt x="1379" y="179"/>
                  </a:moveTo>
                  <a:lnTo>
                    <a:pt x="1638" y="81"/>
                  </a:lnTo>
                  <a:lnTo>
                    <a:pt x="1865" y="0"/>
                  </a:lnTo>
                  <a:lnTo>
                    <a:pt x="2417" y="114"/>
                  </a:lnTo>
                  <a:lnTo>
                    <a:pt x="3211" y="390"/>
                  </a:lnTo>
                  <a:lnTo>
                    <a:pt x="2741" y="487"/>
                  </a:lnTo>
                  <a:lnTo>
                    <a:pt x="2222" y="665"/>
                  </a:lnTo>
                  <a:lnTo>
                    <a:pt x="1833" y="909"/>
                  </a:lnTo>
                  <a:lnTo>
                    <a:pt x="1427" y="1217"/>
                  </a:lnTo>
                  <a:lnTo>
                    <a:pt x="1087" y="1314"/>
                  </a:lnTo>
                  <a:lnTo>
                    <a:pt x="811" y="1136"/>
                  </a:lnTo>
                  <a:lnTo>
                    <a:pt x="438" y="909"/>
                  </a:lnTo>
                  <a:lnTo>
                    <a:pt x="178" y="795"/>
                  </a:lnTo>
                  <a:lnTo>
                    <a:pt x="0" y="714"/>
                  </a:lnTo>
                  <a:lnTo>
                    <a:pt x="373" y="633"/>
                  </a:lnTo>
                  <a:lnTo>
                    <a:pt x="1103" y="325"/>
                  </a:lnTo>
                  <a:lnTo>
                    <a:pt x="1379" y="179"/>
                  </a:lnTo>
                  <a:close/>
                </a:path>
              </a:pathLst>
            </a:custGeom>
            <a:solidFill>
              <a:srgbClr val="a08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7400" y="1441800"/>
              <a:ext cx="1498320" cy="613800"/>
            </a:xfrm>
            <a:custGeom>
              <a:avLst/>
              <a:gdLst/>
              <a:ahLst/>
              <a:rect l="l" t="t" r="r" b="b"/>
              <a:pathLst>
                <a:path w="3211" h="1314">
                  <a:moveTo>
                    <a:pt x="1379" y="179"/>
                  </a:moveTo>
                  <a:lnTo>
                    <a:pt x="1638" y="81"/>
                  </a:lnTo>
                  <a:lnTo>
                    <a:pt x="1865" y="0"/>
                  </a:lnTo>
                  <a:lnTo>
                    <a:pt x="2417" y="114"/>
                  </a:lnTo>
                  <a:lnTo>
                    <a:pt x="3211" y="390"/>
                  </a:lnTo>
                  <a:lnTo>
                    <a:pt x="2741" y="487"/>
                  </a:lnTo>
                  <a:lnTo>
                    <a:pt x="2222" y="665"/>
                  </a:lnTo>
                  <a:lnTo>
                    <a:pt x="1833" y="909"/>
                  </a:lnTo>
                  <a:lnTo>
                    <a:pt x="1427" y="1217"/>
                  </a:lnTo>
                  <a:lnTo>
                    <a:pt x="1087" y="1314"/>
                  </a:lnTo>
                  <a:lnTo>
                    <a:pt x="811" y="1136"/>
                  </a:lnTo>
                  <a:lnTo>
                    <a:pt x="438" y="909"/>
                  </a:lnTo>
                  <a:lnTo>
                    <a:pt x="178" y="795"/>
                  </a:lnTo>
                  <a:lnTo>
                    <a:pt x="0" y="714"/>
                  </a:lnTo>
                  <a:lnTo>
                    <a:pt x="373" y="633"/>
                  </a:lnTo>
                  <a:lnTo>
                    <a:pt x="1103" y="325"/>
                  </a:lnTo>
                  <a:lnTo>
                    <a:pt x="1379" y="179"/>
                  </a:lnTo>
                  <a:close/>
                </a:path>
              </a:pathLst>
            </a:custGeom>
            <a:gradFill rotWithShape="0">
              <a:gsLst>
                <a:gs pos="0">
                  <a:srgbClr val="c2c484"/>
                </a:gs>
                <a:gs pos="50000">
                  <a:srgbClr val="e2e3c6"/>
                </a:gs>
                <a:gs pos="100000">
                  <a:srgbClr val="c2c4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966960" y="733320"/>
              <a:ext cx="892800" cy="879120"/>
              <a:chOff x="966960" y="733320"/>
              <a:chExt cx="892800" cy="879120"/>
            </a:xfrm>
          </p:grpSpPr>
          <p:sp>
            <p:nvSpPr>
              <p:cNvPr id="156" name=""/>
              <p:cNvSpPr/>
              <p:nvPr/>
            </p:nvSpPr>
            <p:spPr>
              <a:xfrm>
                <a:off x="966960" y="733320"/>
                <a:ext cx="847440" cy="856440"/>
              </a:xfrm>
              <a:custGeom>
                <a:avLst/>
                <a:gdLst/>
                <a:ahLst/>
                <a:rect l="l" t="t" r="r" b="b"/>
                <a:pathLst>
                  <a:path w="1817" h="1833">
                    <a:moveTo>
                      <a:pt x="1817" y="1833"/>
                    </a:moveTo>
                    <a:lnTo>
                      <a:pt x="1655" y="1460"/>
                    </a:lnTo>
                    <a:lnTo>
                      <a:pt x="1622" y="1266"/>
                    </a:lnTo>
                    <a:lnTo>
                      <a:pt x="1492" y="990"/>
                    </a:lnTo>
                    <a:lnTo>
                      <a:pt x="1282" y="698"/>
                    </a:lnTo>
                    <a:lnTo>
                      <a:pt x="1022" y="438"/>
                    </a:lnTo>
                    <a:lnTo>
                      <a:pt x="633" y="130"/>
                    </a:lnTo>
                    <a:lnTo>
                      <a:pt x="373" y="17"/>
                    </a:lnTo>
                    <a:lnTo>
                      <a:pt x="195" y="0"/>
                    </a:lnTo>
                    <a:lnTo>
                      <a:pt x="33" y="65"/>
                    </a:lnTo>
                    <a:lnTo>
                      <a:pt x="0" y="195"/>
                    </a:lnTo>
                    <a:lnTo>
                      <a:pt x="98" y="357"/>
                    </a:lnTo>
                    <a:lnTo>
                      <a:pt x="341" y="536"/>
                    </a:lnTo>
                    <a:lnTo>
                      <a:pt x="616" y="748"/>
                    </a:lnTo>
                    <a:lnTo>
                      <a:pt x="892" y="1006"/>
                    </a:lnTo>
                    <a:lnTo>
                      <a:pt x="1087" y="1217"/>
                    </a:lnTo>
                    <a:lnTo>
                      <a:pt x="1330" y="1412"/>
                    </a:lnTo>
                    <a:lnTo>
                      <a:pt x="1460" y="1493"/>
                    </a:lnTo>
                    <a:lnTo>
                      <a:pt x="1622" y="1558"/>
                    </a:lnTo>
                    <a:lnTo>
                      <a:pt x="1817" y="18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402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80720" y="809280"/>
                <a:ext cx="779040" cy="803160"/>
              </a:xfrm>
              <a:custGeom>
                <a:avLst/>
                <a:gdLst/>
                <a:ahLst/>
                <a:rect l="l" t="t" r="r" b="b"/>
                <a:pathLst>
                  <a:path w="1670" h="1719">
                    <a:moveTo>
                      <a:pt x="1290" y="1131"/>
                    </a:moveTo>
                    <a:lnTo>
                      <a:pt x="1086" y="875"/>
                    </a:lnTo>
                    <a:lnTo>
                      <a:pt x="843" y="584"/>
                    </a:lnTo>
                    <a:lnTo>
                      <a:pt x="551" y="324"/>
                    </a:lnTo>
                    <a:lnTo>
                      <a:pt x="97" y="16"/>
                    </a:lnTo>
                    <a:lnTo>
                      <a:pt x="0" y="0"/>
                    </a:lnTo>
                    <a:lnTo>
                      <a:pt x="308" y="227"/>
                    </a:lnTo>
                    <a:lnTo>
                      <a:pt x="567" y="421"/>
                    </a:lnTo>
                    <a:lnTo>
                      <a:pt x="843" y="681"/>
                    </a:lnTo>
                    <a:lnTo>
                      <a:pt x="1102" y="973"/>
                    </a:lnTo>
                    <a:lnTo>
                      <a:pt x="1236" y="1167"/>
                    </a:lnTo>
                    <a:lnTo>
                      <a:pt x="1329" y="1330"/>
                    </a:lnTo>
                    <a:lnTo>
                      <a:pt x="1540" y="1703"/>
                    </a:lnTo>
                    <a:lnTo>
                      <a:pt x="1670" y="1719"/>
                    </a:lnTo>
                    <a:lnTo>
                      <a:pt x="1411" y="1281"/>
                    </a:lnTo>
                    <a:lnTo>
                      <a:pt x="1290" y="113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2000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1860840" y="1495440"/>
              <a:ext cx="354600" cy="154080"/>
            </a:xfrm>
            <a:custGeom>
              <a:avLst/>
              <a:gdLst/>
              <a:ahLst/>
              <a:rect l="l" t="t" r="r" b="b"/>
              <a:pathLst>
                <a:path w="760" h="330">
                  <a:moveTo>
                    <a:pt x="18" y="24"/>
                  </a:moveTo>
                  <a:cubicBezTo>
                    <a:pt x="36" y="18"/>
                    <a:pt x="54" y="12"/>
                    <a:pt x="72" y="6"/>
                  </a:cubicBezTo>
                  <a:cubicBezTo>
                    <a:pt x="78" y="4"/>
                    <a:pt x="90" y="0"/>
                    <a:pt x="90" y="0"/>
                  </a:cubicBezTo>
                  <a:cubicBezTo>
                    <a:pt x="110" y="2"/>
                    <a:pt x="131" y="0"/>
                    <a:pt x="150" y="6"/>
                  </a:cubicBezTo>
                  <a:cubicBezTo>
                    <a:pt x="172" y="13"/>
                    <a:pt x="160" y="51"/>
                    <a:pt x="168" y="72"/>
                  </a:cubicBezTo>
                  <a:cubicBezTo>
                    <a:pt x="172" y="81"/>
                    <a:pt x="196" y="87"/>
                    <a:pt x="204" y="90"/>
                  </a:cubicBezTo>
                  <a:cubicBezTo>
                    <a:pt x="282" y="82"/>
                    <a:pt x="313" y="68"/>
                    <a:pt x="378" y="90"/>
                  </a:cubicBezTo>
                  <a:cubicBezTo>
                    <a:pt x="386" y="115"/>
                    <a:pt x="370" y="131"/>
                    <a:pt x="384" y="156"/>
                  </a:cubicBezTo>
                  <a:cubicBezTo>
                    <a:pt x="389" y="166"/>
                    <a:pt x="411" y="171"/>
                    <a:pt x="420" y="174"/>
                  </a:cubicBezTo>
                  <a:cubicBezTo>
                    <a:pt x="448" y="165"/>
                    <a:pt x="475" y="161"/>
                    <a:pt x="504" y="156"/>
                  </a:cubicBezTo>
                  <a:cubicBezTo>
                    <a:pt x="539" y="162"/>
                    <a:pt x="570" y="166"/>
                    <a:pt x="600" y="186"/>
                  </a:cubicBezTo>
                  <a:cubicBezTo>
                    <a:pt x="598" y="196"/>
                    <a:pt x="593" y="206"/>
                    <a:pt x="594" y="216"/>
                  </a:cubicBezTo>
                  <a:cubicBezTo>
                    <a:pt x="600" y="281"/>
                    <a:pt x="659" y="260"/>
                    <a:pt x="714" y="264"/>
                  </a:cubicBezTo>
                  <a:cubicBezTo>
                    <a:pt x="720" y="265"/>
                    <a:pt x="760" y="266"/>
                    <a:pt x="756" y="288"/>
                  </a:cubicBezTo>
                  <a:cubicBezTo>
                    <a:pt x="754" y="299"/>
                    <a:pt x="697" y="314"/>
                    <a:pt x="684" y="318"/>
                  </a:cubicBezTo>
                  <a:cubicBezTo>
                    <a:pt x="672" y="322"/>
                    <a:pt x="648" y="330"/>
                    <a:pt x="648" y="330"/>
                  </a:cubicBezTo>
                  <a:cubicBezTo>
                    <a:pt x="599" y="326"/>
                    <a:pt x="570" y="326"/>
                    <a:pt x="528" y="312"/>
                  </a:cubicBezTo>
                  <a:cubicBezTo>
                    <a:pt x="530" y="292"/>
                    <a:pt x="534" y="272"/>
                    <a:pt x="534" y="252"/>
                  </a:cubicBezTo>
                  <a:cubicBezTo>
                    <a:pt x="534" y="240"/>
                    <a:pt x="538" y="223"/>
                    <a:pt x="528" y="216"/>
                  </a:cubicBezTo>
                  <a:cubicBezTo>
                    <a:pt x="520" y="210"/>
                    <a:pt x="461" y="232"/>
                    <a:pt x="456" y="234"/>
                  </a:cubicBezTo>
                  <a:cubicBezTo>
                    <a:pt x="450" y="236"/>
                    <a:pt x="438" y="240"/>
                    <a:pt x="438" y="240"/>
                  </a:cubicBezTo>
                  <a:cubicBezTo>
                    <a:pt x="392" y="235"/>
                    <a:pt x="376" y="239"/>
                    <a:pt x="342" y="216"/>
                  </a:cubicBezTo>
                  <a:cubicBezTo>
                    <a:pt x="331" y="184"/>
                    <a:pt x="333" y="149"/>
                    <a:pt x="300" y="138"/>
                  </a:cubicBezTo>
                  <a:cubicBezTo>
                    <a:pt x="248" y="155"/>
                    <a:pt x="214" y="148"/>
                    <a:pt x="156" y="144"/>
                  </a:cubicBezTo>
                  <a:cubicBezTo>
                    <a:pt x="145" y="141"/>
                    <a:pt x="122" y="138"/>
                    <a:pt x="114" y="126"/>
                  </a:cubicBezTo>
                  <a:cubicBezTo>
                    <a:pt x="78" y="69"/>
                    <a:pt x="125" y="105"/>
                    <a:pt x="84" y="78"/>
                  </a:cubicBezTo>
                  <a:cubicBezTo>
                    <a:pt x="45" y="84"/>
                    <a:pt x="34" y="88"/>
                    <a:pt x="6" y="60"/>
                  </a:cubicBezTo>
                  <a:cubicBezTo>
                    <a:pt x="12" y="22"/>
                    <a:pt x="0" y="24"/>
                    <a:pt x="18" y="24"/>
                  </a:cubicBezTo>
                  <a:close/>
                </a:path>
              </a:pathLst>
            </a:custGeom>
            <a:solidFill>
              <a:srgbClr val="464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19440" y="1595160"/>
              <a:ext cx="159840" cy="66240"/>
            </a:xfrm>
            <a:custGeom>
              <a:avLst/>
              <a:gdLst/>
              <a:ahLst/>
              <a:rect l="l" t="t" r="r" b="b"/>
              <a:pathLst>
                <a:path w="343" h="142">
                  <a:moveTo>
                    <a:pt x="41" y="9"/>
                  </a:moveTo>
                  <a:cubicBezTo>
                    <a:pt x="69" y="0"/>
                    <a:pt x="60" y="0"/>
                    <a:pt x="101" y="9"/>
                  </a:cubicBezTo>
                  <a:cubicBezTo>
                    <a:pt x="113" y="12"/>
                    <a:pt x="137" y="21"/>
                    <a:pt x="137" y="21"/>
                  </a:cubicBezTo>
                  <a:cubicBezTo>
                    <a:pt x="139" y="27"/>
                    <a:pt x="144" y="33"/>
                    <a:pt x="143" y="39"/>
                  </a:cubicBezTo>
                  <a:cubicBezTo>
                    <a:pt x="142" y="46"/>
                    <a:pt x="126" y="51"/>
                    <a:pt x="131" y="57"/>
                  </a:cubicBezTo>
                  <a:cubicBezTo>
                    <a:pt x="139" y="67"/>
                    <a:pt x="155" y="65"/>
                    <a:pt x="167" y="69"/>
                  </a:cubicBezTo>
                  <a:cubicBezTo>
                    <a:pt x="217" y="86"/>
                    <a:pt x="179" y="75"/>
                    <a:pt x="287" y="81"/>
                  </a:cubicBezTo>
                  <a:cubicBezTo>
                    <a:pt x="296" y="84"/>
                    <a:pt x="343" y="113"/>
                    <a:pt x="305" y="123"/>
                  </a:cubicBezTo>
                  <a:cubicBezTo>
                    <a:pt x="280" y="130"/>
                    <a:pt x="253" y="127"/>
                    <a:pt x="227" y="129"/>
                  </a:cubicBezTo>
                  <a:cubicBezTo>
                    <a:pt x="175" y="142"/>
                    <a:pt x="156" y="139"/>
                    <a:pt x="107" y="123"/>
                  </a:cubicBezTo>
                  <a:cubicBezTo>
                    <a:pt x="97" y="108"/>
                    <a:pt x="91" y="80"/>
                    <a:pt x="77" y="69"/>
                  </a:cubicBezTo>
                  <a:cubicBezTo>
                    <a:pt x="60" y="55"/>
                    <a:pt x="33" y="60"/>
                    <a:pt x="11" y="57"/>
                  </a:cubicBezTo>
                  <a:cubicBezTo>
                    <a:pt x="2" y="31"/>
                    <a:pt x="0" y="13"/>
                    <a:pt x="29" y="3"/>
                  </a:cubicBezTo>
                  <a:cubicBezTo>
                    <a:pt x="49" y="10"/>
                    <a:pt x="53" y="9"/>
                    <a:pt x="41" y="9"/>
                  </a:cubicBezTo>
                  <a:close/>
                </a:path>
              </a:pathLst>
            </a:custGeom>
            <a:solidFill>
              <a:srgbClr val="464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0520" bIns="20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Why didn’t Digital lead </a:t>
            </a:r>
            <a:br>
              <a:rPr sz="3200"/>
            </a:b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personal computers?</a:t>
            </a:r>
            <a:endParaRPr b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35812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That’s another talk…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Minis and timesharing contributions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SpaceWar demonstrated the importance of interactive graphics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Editors, calculators, interactive debuggers, interpreters were in use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Mail and chat used timesharing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Minis established embedded computers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First personal computer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5" name="Altair8800CPU.Com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Micral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7" name="MicralCPU.Com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7315200" cy="48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In the beginning: Manchester “Baby” ran the first  program 22 June 1948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9" name="Manchester%20baby" descr=""/>
          <p:cNvPicPr/>
          <p:nvPr/>
        </p:nvPicPr>
        <p:blipFill>
          <a:blip r:embed="rId1"/>
          <a:stretch/>
        </p:blipFill>
        <p:spPr>
          <a:xfrm>
            <a:off x="914400" y="1825560"/>
            <a:ext cx="7848720" cy="45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Deuc%20console%20photo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848360" cy="5776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English Electric Deuce Console 1955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Whirlwind" descr=""/>
          <p:cNvPicPr/>
          <p:nvPr/>
        </p:nvPicPr>
        <p:blipFill>
          <a:blip r:embed="rId1"/>
          <a:stretch/>
        </p:blipFill>
        <p:spPr>
          <a:xfrm>
            <a:off x="990720" y="1984320"/>
            <a:ext cx="7848360" cy="2816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Whirlwind c1953 … 1st generation, 16-bit word; 4 KB memory; 8 K drum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51814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Whirlwind begot TX-O/TX-2 begot DEC PDP-1 Real time, first compiler, ECAD, text edito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Whirlwind console, drum, 1 Kw core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6" name="WW%20exhibit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990720" y="1371600"/>
            <a:ext cx="7696080" cy="509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3T18:39:24Z</dcterms:created>
  <dc:creator>Gordon Bell</dc:creator>
  <dc:description/>
  <dc:language>en-US</dc:language>
  <cp:lastModifiedBy>gordon bell</cp:lastModifiedBy>
  <dcterms:modified xsi:type="dcterms:W3CDTF">2001-05-21T22:29:44Z</dcterms:modified>
  <cp:revision>11</cp:revision>
  <dc:subject/>
  <dc:title>Personal Computing:  before the PC</dc:title>
</cp:coreProperties>
</file>