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B8B-F703-4169-B468-E54243FC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959-B2E5-4249-BF97-C881A0A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211-CB94-45B6-8470-BF3CEA6F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B95-3D06-47CA-95FF-EB72CE5A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699-F2E2-4687-856A-703624BB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055-6408-4A0F-B73E-5D39FA8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497-F566-492B-8000-9647760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619-AD3C-4CEA-B9E3-14D1EA21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A113-5A61-4109-BC09-8C69D1F8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881-6FE8-42EF-A5C2-80163FA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928-B72D-4A85-BA35-0078F34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333-4505-41C6-827E-20DED47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C848-B973-48F6-B5B3-6AC84CC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1C93-5A20-4A19-99CC-FD3981E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8248-214A-489A-9850-2627A4E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7DB-AB36-44AA-817A-BEDC6AC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603-59AB-4ACF-8E0E-FB50099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C54-9DA0-4E7F-865A-4258C7A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F23-FB67-463D-9997-C1CDDE8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B03-089E-48B4-85C3-8FD595F8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9AF-A759-4638-BC1D-962C0C5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0B2-E585-4F19-A4F4-E2B0D4A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85A-B974-43B1-82BA-238A5A5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28B-6593-430D-9FD2-24919FF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88D-9504-4CEC-BACC-6B57BD5F92A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75C-A014-43BB-9F27-14F77441881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Personal Computing: 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before the PC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Vintage Computer Society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27 September 1998 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age%20big%20screen%20rm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324840" cy="50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Control Room c 1962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used for first experiment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5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1Sys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Gbell with LINC and PDP-8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BM%20PC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203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D8%20price%20t%20(log)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prices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en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dp6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62120" y="1638360"/>
            <a:ext cx="8076960" cy="4686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 Development team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1071360"/>
            <a:ext cx="7056360" cy="27716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3160" y="3890520"/>
            <a:ext cx="5663880" cy="1698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Apple II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" name="AppleIICPU.Com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47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0320" y="2228760"/>
            <a:ext cx="780264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.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66960" y="733320"/>
            <a:ext cx="1605960" cy="1352160"/>
            <a:chOff x="966960" y="733320"/>
            <a:chExt cx="1605960" cy="1352160"/>
          </a:xfrm>
        </p:grpSpPr>
        <p:sp>
          <p:nvSpPr>
            <p:cNvPr id="153" name=""/>
            <p:cNvSpPr/>
            <p:nvPr/>
          </p:nvSpPr>
          <p:spPr>
            <a:xfrm>
              <a:off x="1074960" y="1472040"/>
              <a:ext cx="1497960" cy="61344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solidFill>
              <a:srgbClr val="a08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7400" y="1441800"/>
              <a:ext cx="1498320" cy="61380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gradFill rotWithShape="0">
              <a:gsLst>
                <a:gs pos="0">
                  <a:srgbClr val="c2c484"/>
                </a:gs>
                <a:gs pos="50000">
                  <a:srgbClr val="e2e3c6"/>
                </a:gs>
                <a:gs pos="100000">
                  <a:srgbClr val="c2c4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66960" y="733320"/>
              <a:ext cx="892800" cy="879120"/>
              <a:chOff x="966960" y="733320"/>
              <a:chExt cx="892800" cy="879120"/>
            </a:xfrm>
          </p:grpSpPr>
          <p:sp>
            <p:nvSpPr>
              <p:cNvPr id="156" name=""/>
              <p:cNvSpPr/>
              <p:nvPr/>
            </p:nvSpPr>
            <p:spPr>
              <a:xfrm>
                <a:off x="966960" y="733320"/>
                <a:ext cx="847440" cy="856440"/>
              </a:xfrm>
              <a:custGeom>
                <a:avLst/>
                <a:gdLst/>
                <a:ahLst/>
                <a:rect l="l" t="t" r="r" b="b"/>
                <a:pathLst>
                  <a:path w="1817" h="1833">
                    <a:moveTo>
                      <a:pt x="1817" y="1833"/>
                    </a:moveTo>
                    <a:lnTo>
                      <a:pt x="1655" y="1460"/>
                    </a:lnTo>
                    <a:lnTo>
                      <a:pt x="1622" y="1266"/>
                    </a:lnTo>
                    <a:lnTo>
                      <a:pt x="1492" y="990"/>
                    </a:lnTo>
                    <a:lnTo>
                      <a:pt x="1282" y="698"/>
                    </a:lnTo>
                    <a:lnTo>
                      <a:pt x="1022" y="438"/>
                    </a:lnTo>
                    <a:lnTo>
                      <a:pt x="633" y="130"/>
                    </a:lnTo>
                    <a:lnTo>
                      <a:pt x="373" y="17"/>
                    </a:lnTo>
                    <a:lnTo>
                      <a:pt x="195" y="0"/>
                    </a:lnTo>
                    <a:lnTo>
                      <a:pt x="33" y="65"/>
                    </a:lnTo>
                    <a:lnTo>
                      <a:pt x="0" y="195"/>
                    </a:lnTo>
                    <a:lnTo>
                      <a:pt x="98" y="357"/>
                    </a:lnTo>
                    <a:lnTo>
                      <a:pt x="341" y="536"/>
                    </a:lnTo>
                    <a:lnTo>
                      <a:pt x="616" y="748"/>
                    </a:lnTo>
                    <a:lnTo>
                      <a:pt x="892" y="1006"/>
                    </a:lnTo>
                    <a:lnTo>
                      <a:pt x="1087" y="1217"/>
                    </a:lnTo>
                    <a:lnTo>
                      <a:pt x="1330" y="1412"/>
                    </a:lnTo>
                    <a:lnTo>
                      <a:pt x="1460" y="1493"/>
                    </a:lnTo>
                    <a:lnTo>
                      <a:pt x="1622" y="1558"/>
                    </a:lnTo>
                    <a:lnTo>
                      <a:pt x="1817" y="18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402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80720" y="809280"/>
                <a:ext cx="779040" cy="803160"/>
              </a:xfrm>
              <a:custGeom>
                <a:avLst/>
                <a:gdLst/>
                <a:ahLst/>
                <a:rect l="l" t="t" r="r" b="b"/>
                <a:pathLst>
                  <a:path w="1670" h="1719">
                    <a:moveTo>
                      <a:pt x="1290" y="1131"/>
                    </a:moveTo>
                    <a:lnTo>
                      <a:pt x="1086" y="875"/>
                    </a:lnTo>
                    <a:lnTo>
                      <a:pt x="843" y="584"/>
                    </a:lnTo>
                    <a:lnTo>
                      <a:pt x="551" y="324"/>
                    </a:lnTo>
                    <a:lnTo>
                      <a:pt x="97" y="16"/>
                    </a:lnTo>
                    <a:lnTo>
                      <a:pt x="0" y="0"/>
                    </a:lnTo>
                    <a:lnTo>
                      <a:pt x="308" y="227"/>
                    </a:lnTo>
                    <a:lnTo>
                      <a:pt x="567" y="421"/>
                    </a:lnTo>
                    <a:lnTo>
                      <a:pt x="843" y="681"/>
                    </a:lnTo>
                    <a:lnTo>
                      <a:pt x="1102" y="973"/>
                    </a:lnTo>
                    <a:lnTo>
                      <a:pt x="1236" y="1167"/>
                    </a:lnTo>
                    <a:lnTo>
                      <a:pt x="1329" y="1330"/>
                    </a:lnTo>
                    <a:lnTo>
                      <a:pt x="1540" y="1703"/>
                    </a:lnTo>
                    <a:lnTo>
                      <a:pt x="1670" y="1719"/>
                    </a:lnTo>
                    <a:lnTo>
                      <a:pt x="1411" y="1281"/>
                    </a:lnTo>
                    <a:lnTo>
                      <a:pt x="1290" y="1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2000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860840" y="1495440"/>
              <a:ext cx="354600" cy="154080"/>
            </a:xfrm>
            <a:custGeom>
              <a:avLst/>
              <a:gdLst/>
              <a:ahLst/>
              <a:rect l="l" t="t" r="r" b="b"/>
              <a:pathLst>
                <a:path w="760" h="330">
                  <a:moveTo>
                    <a:pt x="18" y="24"/>
                  </a:moveTo>
                  <a:cubicBezTo>
                    <a:pt x="36" y="18"/>
                    <a:pt x="54" y="12"/>
                    <a:pt x="72" y="6"/>
                  </a:cubicBezTo>
                  <a:cubicBezTo>
                    <a:pt x="78" y="4"/>
                    <a:pt x="90" y="0"/>
                    <a:pt x="90" y="0"/>
                  </a:cubicBezTo>
                  <a:cubicBezTo>
                    <a:pt x="110" y="2"/>
                    <a:pt x="131" y="0"/>
                    <a:pt x="150" y="6"/>
                  </a:cubicBezTo>
                  <a:cubicBezTo>
                    <a:pt x="172" y="13"/>
                    <a:pt x="160" y="51"/>
                    <a:pt x="168" y="72"/>
                  </a:cubicBezTo>
                  <a:cubicBezTo>
                    <a:pt x="172" y="81"/>
                    <a:pt x="196" y="87"/>
                    <a:pt x="204" y="90"/>
                  </a:cubicBezTo>
                  <a:cubicBezTo>
                    <a:pt x="282" y="82"/>
                    <a:pt x="313" y="68"/>
                    <a:pt x="378" y="90"/>
                  </a:cubicBezTo>
                  <a:cubicBezTo>
                    <a:pt x="386" y="115"/>
                    <a:pt x="370" y="131"/>
                    <a:pt x="384" y="156"/>
                  </a:cubicBezTo>
                  <a:cubicBezTo>
                    <a:pt x="389" y="166"/>
                    <a:pt x="411" y="171"/>
                    <a:pt x="420" y="174"/>
                  </a:cubicBezTo>
                  <a:cubicBezTo>
                    <a:pt x="448" y="165"/>
                    <a:pt x="475" y="161"/>
                    <a:pt x="504" y="156"/>
                  </a:cubicBezTo>
                  <a:cubicBezTo>
                    <a:pt x="539" y="162"/>
                    <a:pt x="570" y="166"/>
                    <a:pt x="600" y="186"/>
                  </a:cubicBezTo>
                  <a:cubicBezTo>
                    <a:pt x="598" y="196"/>
                    <a:pt x="593" y="206"/>
                    <a:pt x="594" y="216"/>
                  </a:cubicBezTo>
                  <a:cubicBezTo>
                    <a:pt x="600" y="281"/>
                    <a:pt x="659" y="260"/>
                    <a:pt x="714" y="264"/>
                  </a:cubicBezTo>
                  <a:cubicBezTo>
                    <a:pt x="720" y="265"/>
                    <a:pt x="760" y="266"/>
                    <a:pt x="756" y="288"/>
                  </a:cubicBezTo>
                  <a:cubicBezTo>
                    <a:pt x="754" y="299"/>
                    <a:pt x="697" y="314"/>
                    <a:pt x="684" y="318"/>
                  </a:cubicBezTo>
                  <a:cubicBezTo>
                    <a:pt x="672" y="322"/>
                    <a:pt x="648" y="330"/>
                    <a:pt x="648" y="330"/>
                  </a:cubicBezTo>
                  <a:cubicBezTo>
                    <a:pt x="599" y="326"/>
                    <a:pt x="570" y="326"/>
                    <a:pt x="528" y="312"/>
                  </a:cubicBezTo>
                  <a:cubicBezTo>
                    <a:pt x="530" y="292"/>
                    <a:pt x="534" y="272"/>
                    <a:pt x="534" y="252"/>
                  </a:cubicBezTo>
                  <a:cubicBezTo>
                    <a:pt x="534" y="240"/>
                    <a:pt x="538" y="223"/>
                    <a:pt x="528" y="216"/>
                  </a:cubicBezTo>
                  <a:cubicBezTo>
                    <a:pt x="520" y="210"/>
                    <a:pt x="461" y="232"/>
                    <a:pt x="456" y="234"/>
                  </a:cubicBezTo>
                  <a:cubicBezTo>
                    <a:pt x="450" y="236"/>
                    <a:pt x="438" y="240"/>
                    <a:pt x="438" y="240"/>
                  </a:cubicBezTo>
                  <a:cubicBezTo>
                    <a:pt x="392" y="235"/>
                    <a:pt x="376" y="239"/>
                    <a:pt x="342" y="216"/>
                  </a:cubicBezTo>
                  <a:cubicBezTo>
                    <a:pt x="331" y="184"/>
                    <a:pt x="333" y="149"/>
                    <a:pt x="300" y="138"/>
                  </a:cubicBezTo>
                  <a:cubicBezTo>
                    <a:pt x="248" y="155"/>
                    <a:pt x="214" y="148"/>
                    <a:pt x="156" y="144"/>
                  </a:cubicBezTo>
                  <a:cubicBezTo>
                    <a:pt x="145" y="141"/>
                    <a:pt x="122" y="138"/>
                    <a:pt x="114" y="126"/>
                  </a:cubicBezTo>
                  <a:cubicBezTo>
                    <a:pt x="78" y="69"/>
                    <a:pt x="125" y="105"/>
                    <a:pt x="84" y="78"/>
                  </a:cubicBezTo>
                  <a:cubicBezTo>
                    <a:pt x="45" y="84"/>
                    <a:pt x="34" y="88"/>
                    <a:pt x="6" y="60"/>
                  </a:cubicBezTo>
                  <a:cubicBezTo>
                    <a:pt x="12" y="22"/>
                    <a:pt x="0" y="24"/>
                    <a:pt x="18" y="24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9440" y="1595160"/>
              <a:ext cx="159840" cy="66240"/>
            </a:xfrm>
            <a:custGeom>
              <a:avLst/>
              <a:gdLst/>
              <a:ahLst/>
              <a:rect l="l" t="t" r="r" b="b"/>
              <a:pathLst>
                <a:path w="343" h="142">
                  <a:moveTo>
                    <a:pt x="41" y="9"/>
                  </a:moveTo>
                  <a:cubicBezTo>
                    <a:pt x="69" y="0"/>
                    <a:pt x="60" y="0"/>
                    <a:pt x="101" y="9"/>
                  </a:cubicBezTo>
                  <a:cubicBezTo>
                    <a:pt x="113" y="12"/>
                    <a:pt x="137" y="21"/>
                    <a:pt x="137" y="21"/>
                  </a:cubicBezTo>
                  <a:cubicBezTo>
                    <a:pt x="139" y="27"/>
                    <a:pt x="144" y="33"/>
                    <a:pt x="143" y="39"/>
                  </a:cubicBezTo>
                  <a:cubicBezTo>
                    <a:pt x="142" y="46"/>
                    <a:pt x="126" y="51"/>
                    <a:pt x="131" y="57"/>
                  </a:cubicBezTo>
                  <a:cubicBezTo>
                    <a:pt x="139" y="67"/>
                    <a:pt x="155" y="65"/>
                    <a:pt x="167" y="69"/>
                  </a:cubicBezTo>
                  <a:cubicBezTo>
                    <a:pt x="217" y="86"/>
                    <a:pt x="179" y="75"/>
                    <a:pt x="287" y="81"/>
                  </a:cubicBezTo>
                  <a:cubicBezTo>
                    <a:pt x="296" y="84"/>
                    <a:pt x="343" y="113"/>
                    <a:pt x="305" y="123"/>
                  </a:cubicBezTo>
                  <a:cubicBezTo>
                    <a:pt x="280" y="130"/>
                    <a:pt x="253" y="127"/>
                    <a:pt x="227" y="129"/>
                  </a:cubicBezTo>
                  <a:cubicBezTo>
                    <a:pt x="175" y="142"/>
                    <a:pt x="156" y="139"/>
                    <a:pt x="107" y="123"/>
                  </a:cubicBezTo>
                  <a:cubicBezTo>
                    <a:pt x="97" y="108"/>
                    <a:pt x="91" y="80"/>
                    <a:pt x="77" y="69"/>
                  </a:cubicBezTo>
                  <a:cubicBezTo>
                    <a:pt x="60" y="55"/>
                    <a:pt x="33" y="60"/>
                    <a:pt x="11" y="57"/>
                  </a:cubicBezTo>
                  <a:cubicBezTo>
                    <a:pt x="2" y="31"/>
                    <a:pt x="0" y="13"/>
                    <a:pt x="29" y="3"/>
                  </a:cubicBezTo>
                  <a:cubicBezTo>
                    <a:pt x="49" y="10"/>
                    <a:pt x="53" y="9"/>
                    <a:pt x="41" y="9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520" bIns="20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talk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paceWar demonstrated the importance of interactive graphic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 were in use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ail and chat used timesharing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inis established embedded computer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First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Altair8800CPU.Com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cra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" name="MicralCPU.Com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315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n the beginning: Manchester “Baby” ran the first  program 22 June 1948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Manchester%20baby" descr=""/>
          <p:cNvPicPr/>
          <p:nvPr/>
        </p:nvPicPr>
        <p:blipFill>
          <a:blip r:embed="rId1"/>
          <a:stretch/>
        </p:blipFill>
        <p:spPr>
          <a:xfrm>
            <a:off x="914400" y="1825560"/>
            <a:ext cx="78487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euc%20console%20photo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77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nglish Electric Deuce Console 1955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5-21T22:29:44Z</dcterms:modified>
  <cp:revision>11</cp:revision>
  <dc:subject/>
  <dc:title>Personal Computing:  before the PC</dc:title>
</cp:coreProperties>
</file>