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7CA-D361-4447-9C5C-A0994E77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6F6-9970-4808-8229-39B472B0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79D-AD3F-4DB3-8369-0C3FF6C8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9C5-AAD1-4243-945C-084443E9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4B05-2E4D-498B-A7F9-9D8B0BCD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FB70-5097-4F50-8224-45C44B6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789E-2D43-4494-814C-C4CA7FD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0F3A-01A5-48F1-9C41-BA0F0740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6163-31F2-4075-B713-47AA1B0C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59C4-AC11-4C4D-8813-31EDF824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5E81-AE4C-4A2D-9821-39D60EF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FA2-27B6-4486-A0D0-766330CD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4D25-B558-439A-9A82-DB7C552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427D-CF30-436C-A251-E02FFA0D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FF13-734F-4BF9-8E74-7308A22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7BCA-8B75-4FA6-8EAB-389363F4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837-D017-4903-8D24-5DC2B3C7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E6B-281C-4628-8D86-DD68291B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D21-447D-4E43-B3D6-F25DB74D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A74-359D-4259-B6FE-1701F24D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DEF-C408-47EB-9ECE-D912888E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BCB-5CAA-49FD-9D46-C1A3CFF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082-EC00-4A87-822F-25D3594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C06-8C18-46E5-8CF7-951B844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752D-3972-4C33-BDFC-70F0C2DA15A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05C9-777E-4614-98C0-0AD2B0C8159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8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2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Gordon’s Personal View of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 Early Days of Digital…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DECWorld, 16 June 2001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ordon Bell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bell@microsoft.com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ttp://www.research.microsoft.com/~gbell</a:t>
            </a:r>
            <a:endParaRPr b="1" lang="en-US" sz="2800" spc="-1" strike="noStrike">
              <a:solidFill>
                <a:srgbClr val="a08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1 Production Line c 1962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Pkg%20Slide%2025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708660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Livermore Labs machine: they bought one of everything in our virtual catalog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3" name="Pkg%20Slide%2030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2448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Linc%20&amp;%20Wes%20Clark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96080" cy="55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es Clark &amp; LINC c1962: Personal computers for bio-medical research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4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dp4%20color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5438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DP-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3807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5 c1964: PDP-8 predecesso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562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rocess control, real time experiments. Fortran ran in 4 K, 12 bit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7521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 5: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as 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ulse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height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analyzer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3" name="pdp5" descr=""/>
          <p:cNvPicPr/>
          <p:nvPr/>
        </p:nvPicPr>
        <p:blipFill>
          <a:blip r:embed="rId1"/>
          <a:stretch/>
        </p:blipFill>
        <p:spPr>
          <a:xfrm>
            <a:off x="3187800" y="380880"/>
            <a:ext cx="47368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ransModPDP-8.Com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868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Modul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DP%208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838760" cy="6159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712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: first m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7524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First OEM computer.  OS/8 (from timesharing) begot RT-11 begot CP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bell%20with%20Linc%20&amp;%208" descr=""/>
          <p:cNvPicPr/>
          <p:nvPr/>
        </p:nvPicPr>
        <p:blipFill>
          <a:blip r:embed="rId1"/>
          <a:stretch/>
        </p:blipFill>
        <p:spPr>
          <a:xfrm>
            <a:off x="990720" y="95256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Gbell as old man,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ith LINC and PDP-8 c196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DP8E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930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/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hirlwind" descr=""/>
          <p:cNvPicPr/>
          <p:nvPr/>
        </p:nvPicPr>
        <p:blipFill>
          <a:blip r:embed="rId1"/>
          <a:stretch/>
        </p:blipFill>
        <p:spPr>
          <a:xfrm>
            <a:off x="990720" y="1984320"/>
            <a:ext cx="7848360" cy="2816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c1953 … 1st generation, 16-bit word; 4 KB memory; 8 K dru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irlwind begot TX-O/TX-2 begot DEC PDP-1 Real time, first compiler, ECAD, text edi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DP%208%20family%20tree" descr=""/>
          <p:cNvPicPr/>
          <p:nvPr/>
        </p:nvPicPr>
        <p:blipFill>
          <a:blip r:embed="rId1"/>
          <a:stretch/>
        </p:blipFill>
        <p:spPr>
          <a:xfrm>
            <a:off x="914400" y="800280"/>
            <a:ext cx="7924680" cy="5752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and Linc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DP-8%20Price%20word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12 bit word price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imesharing: giving everyone their own, low cost,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6 with GB at the console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40" name="Gordon%20at%20PDP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92468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ell%20kotok%20photo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5375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PDP-6 c1965 : First commercial time shared computer. Gbell &amp; Alan Koto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6 team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4" name="PDP%20Team%20300%20res%208x6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924680" cy="63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Gordon’s Packaging Folly: 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ouble sided connectors for PDP-6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6" name="Pkg%20Slide%2017" descr=""/>
          <p:cNvPicPr/>
          <p:nvPr/>
        </p:nvPicPr>
        <p:blipFill>
          <a:blip r:embed="rId1"/>
          <a:stretch/>
        </p:blipFill>
        <p:spPr>
          <a:xfrm>
            <a:off x="1066680" y="1625760"/>
            <a:ext cx="730584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DP%2010%20family%20tree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84836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/10/ DECsystem 10/20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nis and timesharing contributions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Editors, calculators, interactive debuggers, interpreters, including mail and chat from timesharing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Minis established embedded computers, importance of  I/O to interconnect anything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paceWar demonstrated interactive graphics and settled lots of later law suits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OEM Distribution and marketing model… </a:t>
            </a:r>
            <a:br>
              <a:rPr sz="2800"/>
            </a:b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arlan Anderson, after Tecumseh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CO’s all-in-one module and computer handbooks…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vguy" descr="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4754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7840" y="2228760"/>
            <a:ext cx="780228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Equating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yourself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o the average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“user/buyer”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is risky . . .  unless you’re an average user like me. G. Bell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Whirlwind console, drum, 1 Kw cor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WW%20exhibi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90720" y="1371600"/>
            <a:ext cx="769608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y didn’t Digital lead 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personal computers?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581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t’s another story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25160" y="380880"/>
            <a:ext cx="7056360" cy="277200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here is no reason anyone would want a computer in their home.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35800" y="3657600"/>
            <a:ext cx="2822400" cy="1698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Ken Olsen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President, Chairman and founder of Digital, 1977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7" name="Ken%20Olsen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3808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age%201%20console%20lt%20gun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964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(Semi-Automatic Ground Environment) Operator Consol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X0%20consol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X-0 Console c1959… one of the first transistorized </a:t>
            </a: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personal 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computer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peech, handwriting recognition, neuro data analysis, etc. Interactive editors, debuggers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1371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MIT Speech group with TX-0, c1959.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2" name="DecWorld%208307%20cover%20photo%20MIT%20speech%20group%20with%20TX0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63090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DEC Computer before PDP-11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4" name="DEC%20computers%20Sci%20Mus%20poster" descr=""/>
          <p:cNvPicPr/>
          <p:nvPr/>
        </p:nvPicPr>
        <p:blipFill>
          <a:blip r:embed="rId1">
            <a:lum contrast="12000"/>
          </a:blip>
          <a:stretch/>
        </p:blipFill>
        <p:spPr>
          <a:xfrm flipH="1">
            <a:off x="914040" y="19810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3720" y="152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957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1961     196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DP-1Sysm" descr=""/>
          <p:cNvPicPr/>
          <p:nvPr/>
        </p:nvPicPr>
        <p:blipFill>
          <a:blip r:embed="rId1"/>
          <a:stretch/>
        </p:blipFill>
        <p:spPr>
          <a:xfrm>
            <a:off x="914400" y="1150920"/>
            <a:ext cx="822960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Being tested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Building ?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9" name="pdp1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43848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3T18:39:24Z</dcterms:created>
  <dc:creator>Gordon Bell</dc:creator>
  <dc:description/>
  <dc:language>en-US</dc:language>
  <cp:lastModifiedBy>gordon bell</cp:lastModifiedBy>
  <dcterms:modified xsi:type="dcterms:W3CDTF">2001-06-15T04:20:21Z</dcterms:modified>
  <cp:revision>16</cp:revision>
  <dc:subject/>
  <dc:title>Personal Computing:  before the PC</dc:title>
</cp:coreProperties>
</file>