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B1-32F1-4FD2-B49F-7F3F17D3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E4-E370-4755-B060-1BCCD907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7D8-5303-448A-BE96-610CC774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212-B967-4AFC-B70B-B58C4940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BBF6-377F-4C22-B64B-17A4F4D7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6DD5-59C4-4BA4-AFAB-7F77A254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BC89-BC07-487B-84CA-71EBD1D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1B27-DCF8-4E81-A187-3D81B1F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2CE-FEDC-4973-9F13-E5BAA3C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09C0-32C0-4CCE-ABF7-C297FCB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88C-449C-4873-A840-BACCF68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EEF-43AA-4513-8C17-1D4C07D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008A-E445-469C-BD2B-CDB7B7B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19E9-51A6-4510-AFC2-71998EB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2824-93C3-4042-8C7F-67BEF31E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E64A-0B32-4025-9262-D10241FD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60B6-F61F-4F93-9631-9BBFC7C7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A92-07F0-4688-AD2C-766ADF16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A07-AD66-4996-A188-A57788CE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3D9-B501-43B0-ACCF-2929082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84A-C976-4F8D-B466-62F01A14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7B5-090C-42AA-9FC2-27AF296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2C6-8E38-4182-AF7F-873E3101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F27-DC35-4B29-9274-980C3AB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3F57-C2C1-485D-B2FF-851B740EBFF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D9E7-7561-4A8A-B1FB-AB7AC7DBC79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 Early Days of Digital…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DECWorld, 16 June 2001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1 Production Line c 1962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Pkg%20Slide%202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08660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Livermore Labs machine: they bought one of everything in our virtual catalog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3" name="Pkg%20Slide%2030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2448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4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dp4%20color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5438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 5: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s 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ulse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height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nalyzer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3" name="pdp5" descr=""/>
          <p:cNvPicPr/>
          <p:nvPr/>
        </p:nvPicPr>
        <p:blipFill>
          <a:blip r:embed="rId1"/>
          <a:stretch/>
        </p:blipFill>
        <p:spPr>
          <a:xfrm>
            <a:off x="3187800" y="380880"/>
            <a:ext cx="4736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95256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bell as old man,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ith LINC and PDP-8 c196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ing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with GB at the console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40" name="Gordon%20at%20PDP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tea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4" name="PDP%20Team%20300%20res%208x6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24680" cy="63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Gordon’s Packaging Folly: 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ouble sided connectors for PDP-6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6" name="Pkg%20Slide%2017" descr=""/>
          <p:cNvPicPr/>
          <p:nvPr/>
        </p:nvPicPr>
        <p:blipFill>
          <a:blip r:embed="rId1"/>
          <a:stretch/>
        </p:blipFill>
        <p:spPr>
          <a:xfrm>
            <a:off x="1066680" y="1625760"/>
            <a:ext cx="730584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, including mail and chat from timeshar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Minis established embedded computers, importance of  I/O to interconnect anyth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paceWar demonstrated interactive graphics and settled lots of later law suits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OEM Distribution and marketing model… 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arlan Anderson, after Tecumseh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CO’s all-in-one module and computer handbooks…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7840" y="2228760"/>
            <a:ext cx="780228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 like me. G. Bel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story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25160" y="380880"/>
            <a:ext cx="7056360" cy="277200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35800" y="3657600"/>
            <a:ext cx="2822400" cy="1698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7" name="Ken%20Olsen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808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2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4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DP-1Sysm" descr=""/>
          <p:cNvPicPr/>
          <p:nvPr/>
        </p:nvPicPr>
        <p:blipFill>
          <a:blip r:embed="rId1"/>
          <a:stretch/>
        </p:blipFill>
        <p:spPr>
          <a:xfrm>
            <a:off x="914400" y="115092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eing tested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uilding ?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pdp1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3848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6-15T04:20:21Z</dcterms:modified>
  <cp:revision>16</cp:revision>
  <dc:subject/>
  <dc:title>Personal Computing:  before the PC</dc:title>
</cp:coreProperties>
</file>