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08A-9947-4481-8BF9-FED69B49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A0B-969D-42F9-ABD1-418B6503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D2C3-4B69-4022-BDB5-D2C54CAB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C56-8D8B-4FEA-96C6-11C021E8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2F46-8A60-47D7-A54C-EC81427D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BDC1-5CAF-4D8F-9761-8C89AD80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B9EF-3C28-4A39-80E7-1A881987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213F-897F-43C9-BF7B-EB8D095A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4D1F-5567-4CFE-8F5C-20D2FD96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E767-D591-4BF0-83FB-55068410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13B6-A1BD-4599-8D39-4A3FA5FF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5BEB-4C62-4CA9-AD6A-E9881433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4AFD-D4CD-4835-862D-539C9864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7285-9805-4983-92A1-EECA794F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4E62-C287-402C-93C9-E6887B7A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F63A-AED5-4C71-B845-072242CB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805A-EADA-48C7-A729-7781233E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D17-DE2D-4CE5-9F6E-C97DAAAC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7750-C872-4126-ACF8-BA8568FB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FB2-698E-4445-BBCA-E5CD4425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5AC-4BCB-43A1-806B-1D4616F4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DCB-2DC4-41F9-9A36-DE164AEC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8E4-8E6B-4C9E-81D0-B23D5C2D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FC5-F54F-4E24-9DBF-5E42A697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D027-B956-4562-A763-72EA3171071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BFB9-5D81-44E5-B960-05371B4C0EF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8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2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Gordon’s Personal View of</a:t>
            </a:r>
            <a:br>
              <a:rPr sz="4000"/>
            </a:b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The  Early Days of Digital…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29718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DECWorld, 16 June 2001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Gordon Bell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gbell@microsoft.com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http://www.research.microsoft.com/~gbell</a:t>
            </a:r>
            <a:endParaRPr b="1" lang="en-US" sz="2800" spc="-1" strike="noStrike">
              <a:solidFill>
                <a:srgbClr val="a08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PDP-1 Production Line c 1962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1" name="Pkg%20Slide%2025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7086600" cy="46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Livermore Labs machine: they bought one of everything in our virtual catalog</a:t>
            </a:r>
            <a:endParaRPr b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3" name="Pkg%20Slide%2030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324480" cy="43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Linc%20&amp;%20Wes%20Clark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696080" cy="55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Wes Clark &amp; LINC c1962: Personal computers for bio-medical research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4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8" name="pdp4%20color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5438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DP-5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925040" cy="3807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5 c1964: PDP-8 predecessor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5627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Process control, real time experiments. Fortran ran in 4 K, 12 bit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1752120"/>
            <a:ext cx="198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 5:</a:t>
            </a:r>
            <a:br>
              <a:rPr sz="3600"/>
            </a:b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as </a:t>
            </a:r>
            <a:br>
              <a:rPr sz="3600"/>
            </a:b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ulse</a:t>
            </a:r>
            <a:br>
              <a:rPr sz="3600"/>
            </a:b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height</a:t>
            </a:r>
            <a:br>
              <a:rPr sz="3600"/>
            </a:b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analyzer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3" name="pdp5" descr=""/>
          <p:cNvPicPr/>
          <p:nvPr/>
        </p:nvPicPr>
        <p:blipFill>
          <a:blip r:embed="rId1"/>
          <a:stretch/>
        </p:blipFill>
        <p:spPr>
          <a:xfrm>
            <a:off x="3187800" y="380880"/>
            <a:ext cx="473688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ransModPDP-8.Com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4868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 Module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DP%208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4838760" cy="6159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7120" y="4568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: first mini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1752480"/>
            <a:ext cx="236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First OEM computer.  OS/8 (from timesharing) begot RT-11 begot CP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Gbell%20with%20Linc%20&amp;%208" descr=""/>
          <p:cNvPicPr/>
          <p:nvPr/>
        </p:nvPicPr>
        <p:blipFill>
          <a:blip r:embed="rId1"/>
          <a:stretch/>
        </p:blipFill>
        <p:spPr>
          <a:xfrm>
            <a:off x="990720" y="952560"/>
            <a:ext cx="7848360" cy="5676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Gbell as old man,</a:t>
            </a:r>
            <a:br>
              <a:rPr sz="3200"/>
            </a:b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with LINC and PDP-8 c1965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DP8E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696440" cy="4930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/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Whirlwind" descr=""/>
          <p:cNvPicPr/>
          <p:nvPr/>
        </p:nvPicPr>
        <p:blipFill>
          <a:blip r:embed="rId1"/>
          <a:stretch/>
        </p:blipFill>
        <p:spPr>
          <a:xfrm>
            <a:off x="990720" y="1984320"/>
            <a:ext cx="7848360" cy="2816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Whirlwind c1953 … 1st generation, 16-bit word; 4 KB memory; 8 K drum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5181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Whirlwind begot TX-O/TX-2 begot DEC PDP-1 Real time, first compiler, ECAD, text edito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DP%208%20family%20tree" descr=""/>
          <p:cNvPicPr/>
          <p:nvPr/>
        </p:nvPicPr>
        <p:blipFill>
          <a:blip r:embed="rId1"/>
          <a:stretch/>
        </p:blipFill>
        <p:spPr>
          <a:xfrm>
            <a:off x="914400" y="800280"/>
            <a:ext cx="7924680" cy="57528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 and Linc Family Tre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DP-8%20Price%20word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924680" cy="5867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 12 bit word price (t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Timesharing: giving everyone their own, low cost, personal computer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PDP-6 with GB at the console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40" name="Gordon%20at%20PDP6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924680" cy="56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bell%20kotok%20photo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629400" cy="53751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PDP-6 c1965 : First commercial time shared computer. Gbell &amp; Alan Koto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PDP-6 team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4" name="PDP%20Team%20300%20res%208x6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924680" cy="63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Gordon’s Packaging Folly: </a:t>
            </a:r>
            <a:br>
              <a:rPr sz="3600"/>
            </a:b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double sided connectors for PDP-6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6" name="Pkg%20Slide%2017" descr=""/>
          <p:cNvPicPr/>
          <p:nvPr/>
        </p:nvPicPr>
        <p:blipFill>
          <a:blip r:embed="rId1"/>
          <a:stretch/>
        </p:blipFill>
        <p:spPr>
          <a:xfrm>
            <a:off x="1066680" y="1625760"/>
            <a:ext cx="7305840" cy="48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DP%2010%20family%20tree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84836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6/10/ DECsystem 10/20</a:t>
            </a:r>
            <a:br>
              <a:rPr sz="3600"/>
            </a:b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 family tre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Minis and timesharing contributions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Editors, calculators, interactive debuggers, interpreters, including mail and chat from timesharing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Minis established embedded computers, importance of  I/O to interconnect anything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SpaceWar demonstrated interactive graphics and settled lots of later law suits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OEM Distribution and marketing model… </a:t>
            </a:r>
            <a:br>
              <a:rPr sz="2800"/>
            </a:b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Harlan Anderson, after Tecumseh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SCO’s all-in-one module and computer handbooks…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avguy" descr=""/>
          <p:cNvPicPr/>
          <p:nvPr/>
        </p:nvPicPr>
        <p:blipFill>
          <a:blip r:embed="rId1"/>
          <a:stretch/>
        </p:blipFill>
        <p:spPr>
          <a:xfrm>
            <a:off x="3613320" y="0"/>
            <a:ext cx="5530680" cy="47545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07840" y="2228760"/>
            <a:ext cx="7802280" cy="37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Equating 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yourself 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to the average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“user/buyer”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is risky . . .  unless you’re an average user like me. G. Bell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Whirlwind console, drum, 1 Kw core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5" name="WW%20exhibit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90720" y="1371600"/>
            <a:ext cx="7696080" cy="50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Why didn’t Digital lead </a:t>
            </a:r>
            <a:br>
              <a:rPr sz="3200"/>
            </a:b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personal computers?</a:t>
            </a:r>
            <a:endParaRPr b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35812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That’s another story…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25160" y="380880"/>
            <a:ext cx="7056360" cy="277200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There is no reason anyone would want a computer in their home.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35800" y="3657600"/>
            <a:ext cx="2822400" cy="1698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73000"/>
          </a:bodyPr>
          <a:p>
            <a:pPr indent="0" algn="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Ken Olsen</a:t>
            </a:r>
            <a:br>
              <a:rPr sz="3200"/>
            </a:b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President, Chairman and founder of Digital, 1977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57" name="Ken%20Olsen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38084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Sage%201%20console%20lt%20gun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400800" cy="4964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AGE (Semi-Automatic Ground Environment) Operator Consol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X0%20console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772400" cy="36320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TX-0 Console c1959… one of the first transistorized </a:t>
            </a:r>
            <a:r>
              <a:rPr b="1" i="1" lang="en-US" sz="3600" spc="-1" strike="noStrike">
                <a:solidFill>
                  <a:srgbClr val="402000"/>
                </a:solidFill>
                <a:latin typeface="Times New Roman"/>
              </a:rPr>
              <a:t>personal </a:t>
            </a: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computer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5486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Speech, handwriting recognition, neuro data analysis, etc. Interactive editors, debuggers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1371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MIT Speech group with TX-0, c1959.</a:t>
            </a:r>
            <a:endParaRPr b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2" name="DecWorld%208307%20cover%20photo%20MIT%20speech%20group%20with%20TX0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6309000" cy="59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DEC Computer before PDP-11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4" name="DEC%20computers%20Sci%20Mus%20poster" descr=""/>
          <p:cNvPicPr/>
          <p:nvPr/>
        </p:nvPicPr>
        <p:blipFill>
          <a:blip r:embed="rId1">
            <a:lum contrast="12000"/>
          </a:blip>
          <a:stretch/>
        </p:blipFill>
        <p:spPr>
          <a:xfrm flipH="1">
            <a:off x="914040" y="1981080"/>
            <a:ext cx="7924680" cy="4572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33720" y="1523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957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   1961     1963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DP-1Sysm" descr=""/>
          <p:cNvPicPr/>
          <p:nvPr/>
        </p:nvPicPr>
        <p:blipFill>
          <a:blip r:embed="rId1"/>
          <a:stretch/>
        </p:blipFill>
        <p:spPr>
          <a:xfrm>
            <a:off x="914400" y="1150920"/>
            <a:ext cx="8229600" cy="5707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DEC PDP-1 c1961 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304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DEC PDP-1 c1961</a:t>
            </a:r>
            <a:br>
              <a:rPr sz="3600"/>
            </a:b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Being tested</a:t>
            </a:r>
            <a:br>
              <a:rPr sz="3600"/>
            </a:b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Building ?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9" name="pdp1" descr=""/>
          <p:cNvPicPr/>
          <p:nvPr/>
        </p:nvPicPr>
        <p:blipFill>
          <a:blip r:embed="rId1"/>
          <a:stretch/>
        </p:blipFill>
        <p:spPr>
          <a:xfrm>
            <a:off x="4114800" y="380880"/>
            <a:ext cx="43848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3T18:39:24Z</dcterms:created>
  <dc:creator>Gordon Bell</dc:creator>
  <dc:description/>
  <dc:language>en-US</dc:language>
  <cp:lastModifiedBy>gordon bell</cp:lastModifiedBy>
  <dcterms:modified xsi:type="dcterms:W3CDTF">2001-06-15T04:20:21Z</dcterms:modified>
  <cp:revision>16</cp:revision>
  <dc:subject/>
  <dc:title>Personal Computing:  before the PC</dc:title>
</cp:coreProperties>
</file>